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64E-FD9F-4A8D-B7A4-EAE33A3D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402-ACE6-41EB-876E-281F7C51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E80-19AE-4640-B9E1-27AB0495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132-CE99-4790-86E6-A57FD780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BFA-38C6-48FF-B1A7-098C212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679-C334-4BA5-8A6E-8D3A892F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76D-197D-4083-8108-E47DBDB6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51C-6F26-41C5-8C4F-B89C5364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447-7974-4111-A4CE-1419B65B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4E8-55AD-4D8D-8B8F-42AE355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B76-9DA3-47A1-9740-382B568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7A3-1A01-4846-9F14-B5742EA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A27D-F733-43DB-8A9C-7874AE69C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-6480" y="487440"/>
            <a:ext cx="519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4260960" y="426960"/>
            <a:ext cx="3882960" cy="11336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3"/>
          <a:stretch/>
        </p:blipFill>
        <p:spPr>
          <a:xfrm>
            <a:off x="3560760" y="438120"/>
            <a:ext cx="1328760" cy="109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Big Rubes\Desktop\Project Pictures\cigarette-man.jpg"/>
          <p:cNvPicPr/>
          <p:nvPr/>
        </p:nvPicPr>
        <p:blipFill>
          <a:blip r:embed="rId4"/>
          <a:stretch/>
        </p:blipFill>
        <p:spPr>
          <a:xfrm>
            <a:off x="990720" y="1752480"/>
            <a:ext cx="2600280" cy="3902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Big Rubes\Desktop\Project Pictures\17461grannys_weed_big.jpg"/>
          <p:cNvPicPr/>
          <p:nvPr/>
        </p:nvPicPr>
        <p:blipFill>
          <a:blip r:embed="rId5"/>
          <a:stretch/>
        </p:blipFill>
        <p:spPr>
          <a:xfrm>
            <a:off x="4495680" y="2209680"/>
            <a:ext cx="4073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143000" y="182880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udies from the US Department of Health and Human Services, Substance Abuse and Mental Health Services Administration report that 3.3% of America women use illicit drugs during gestation and 80% of whom use marijua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National Household Survey on Drug abuse state 2.8% of pregnant women use illicit drugs.  Marijuana is used by 75% during gestation and more than 50% also use tobac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study in Seattle was done on 396 females.  Of them 77% reported smoking cigarettes and 50% said they smoked marijuana during pregna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tatistic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371600" y="220968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study done in the U.S. from 2002-2006 on 94,483 women found that cigarette use was reported by nearly a quarter of pregnant women in their first trimester and that 1 in 7 reported cigarette smoking in the second or third trimes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the UK 15-20% of women continue to smoke throughout their pregnan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cording to the CDC approximately 13% of women smoke during the last 3 months of pregna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80880" y="1066680"/>
            <a:ext cx="838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ctive Ingredients in Cigarette smoke are nicotine, tar, and harmful gases, such as carbon monoxide and cyan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rect effects of cigarette smoking include decreased maternal appeti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cause neonatal prematurity and low birth weigh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egree of restriction of fetal growth varies with the number of cigarettes smoked daily (2009, McKinne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Big Rubes\Desktop\Project Pictures\pregnant-woman-smoking.jpg"/>
          <p:cNvPicPr/>
          <p:nvPr/>
        </p:nvPicPr>
        <p:blipFill>
          <a:blip r:embed="rId1"/>
          <a:stretch/>
        </p:blipFill>
        <p:spPr>
          <a:xfrm>
            <a:off x="2971800" y="3817800"/>
            <a:ext cx="33670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riju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57200" y="16765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ctive constituent of marijuana is tetrahydrocannabinol (THC), which crosses the placenta and accumulates in the fetu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ijuana is the most commonly used illicit drug (2009, McKinne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Big Rubes\Desktop\Project Pictures\happy-420-girls-smoking-pot-10.jpg"/>
          <p:cNvPicPr/>
          <p:nvPr/>
        </p:nvPicPr>
        <p:blipFill>
          <a:blip r:embed="rId1"/>
          <a:stretch/>
        </p:blipFill>
        <p:spPr>
          <a:xfrm>
            <a:off x="2666880" y="3429000"/>
            <a:ext cx="38102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actors that affect maternal smo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Big Rubes\Desktop\Project Pictures\britney_pregnant_smoking.jpg"/>
          <p:cNvPicPr/>
          <p:nvPr/>
        </p:nvPicPr>
        <p:blipFill>
          <a:blip r:embed="rId1"/>
          <a:stretch/>
        </p:blipFill>
        <p:spPr>
          <a:xfrm>
            <a:off x="2590920" y="1752480"/>
            <a:ext cx="38098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ternal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Big Rubes\Desktop\Project Pictures\mtv-teen-momjpg-4374672c62e085ca_large.jpg"/>
          <p:cNvPicPr/>
          <p:nvPr/>
        </p:nvPicPr>
        <p:blipFill>
          <a:blip r:embed="rId1"/>
          <a:stretch/>
        </p:blipFill>
        <p:spPr>
          <a:xfrm>
            <a:off x="304920" y="2286000"/>
            <a:ext cx="343368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Big Rubes\Desktop\Project Pictures\istock_000004330255xsmall.jpg"/>
          <p:cNvPicPr/>
          <p:nvPr/>
        </p:nvPicPr>
        <p:blipFill>
          <a:blip r:embed="rId2"/>
          <a:stretch/>
        </p:blipFill>
        <p:spPr>
          <a:xfrm>
            <a:off x="5638680" y="1752480"/>
            <a:ext cx="2743200" cy="4111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4191120" y="2743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ducation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Big Rubes\Desktop\Project Pictures\goodnight-moon1.jpg"/>
          <p:cNvPicPr/>
          <p:nvPr/>
        </p:nvPicPr>
        <p:blipFill>
          <a:blip r:embed="rId1"/>
          <a:stretch/>
        </p:blipFill>
        <p:spPr>
          <a:xfrm>
            <a:off x="609480" y="1905120"/>
            <a:ext cx="3125880" cy="268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Big Rubes\Desktop\Project Pictures\300_17762.jpg"/>
          <p:cNvPicPr/>
          <p:nvPr/>
        </p:nvPicPr>
        <p:blipFill>
          <a:blip r:embed="rId2"/>
          <a:stretch/>
        </p:blipFill>
        <p:spPr>
          <a:xfrm>
            <a:off x="5562720" y="1523880"/>
            <a:ext cx="3101760" cy="3773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4117680" y="2819520"/>
            <a:ext cx="96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rital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12760" y="3048120"/>
            <a:ext cx="96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Big Rubes\Desktop\Project Pictures\1208390601_552551812_52fbec036d.jpg"/>
          <p:cNvPicPr/>
          <p:nvPr/>
        </p:nvPicPr>
        <p:blipFill>
          <a:blip r:embed="rId1"/>
          <a:stretch/>
        </p:blipFill>
        <p:spPr>
          <a:xfrm>
            <a:off x="533520" y="1600200"/>
            <a:ext cx="2762280" cy="3675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Big Rubes\Desktop\Project Pictures\gallery_main-lindsay-lohan-sam-ronson-passions-miami-00.jpg"/>
          <p:cNvPicPr/>
          <p:nvPr/>
        </p:nvPicPr>
        <p:blipFill>
          <a:blip r:embed="rId2"/>
          <a:stretch/>
        </p:blipFill>
        <p:spPr>
          <a:xfrm>
            <a:off x="5257800" y="1523880"/>
            <a:ext cx="31370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overty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Big Rubes\Desktop\Project Pictures\Rich_Man_Poor_Woman.jpg"/>
          <p:cNvPicPr/>
          <p:nvPr/>
        </p:nvPicPr>
        <p:blipFill>
          <a:blip r:embed="rId1"/>
          <a:stretch/>
        </p:blipFill>
        <p:spPr>
          <a:xfrm>
            <a:off x="1219320" y="1447920"/>
            <a:ext cx="6654600" cy="4991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4038480" y="2819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V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ealth Insurance coverage before conce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Big Rubes\Desktop\Project Pictures\healthinsurance_h1-thumb-331x432-11969-thumb-331x432-11970-thumb-331x432-11971.jpg"/>
          <p:cNvPicPr/>
          <p:nvPr/>
        </p:nvPicPr>
        <p:blipFill>
          <a:blip r:embed="rId1"/>
          <a:stretch/>
        </p:blipFill>
        <p:spPr>
          <a:xfrm>
            <a:off x="5638680" y="1752480"/>
            <a:ext cx="315288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Big Rubes\Desktop\Project Pictures\healthyinsure.jpg"/>
          <p:cNvPicPr/>
          <p:nvPr/>
        </p:nvPicPr>
        <p:blipFill>
          <a:blip r:embed="rId2"/>
          <a:stretch/>
        </p:blipFill>
        <p:spPr>
          <a:xfrm>
            <a:off x="533520" y="2286000"/>
            <a:ext cx="310500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4117680" y="3124080"/>
            <a:ext cx="96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31:09Z</dcterms:created>
  <dc:creator>Big Rubes</dc:creator>
  <dc:description/>
  <dc:language>en-US</dc:language>
  <cp:lastModifiedBy>Big Rubes</cp:lastModifiedBy>
  <dcterms:modified xsi:type="dcterms:W3CDTF">2010-04-19T01:38:47Z</dcterms:modified>
  <cp:revision>13</cp:revision>
  <dc:subject/>
  <dc:title>Factors that affect maternal smoking</dc:title>
</cp:coreProperties>
</file>